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18.wmf" ContentType="image/x-wmf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20EF-90A9-4D4D-90C3-AA8096DA2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230E-96F3-4905-AA7C-2687EDE1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715B-7D3B-4937-AB86-7F00CD1C6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DF4E-CBA2-459D-A26C-93BE38444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6028-393E-4CB0-81A5-00D315A3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0E3A-7CE6-4881-94C0-3E6608E1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0FBA-93D8-439A-931E-9A50A4D8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6FE3-631A-4199-AD13-96F139D5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07F5-9469-48CC-851A-104F1B62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870A-3BF0-48F7-AEE5-C383D1B0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A4F7-FB67-4EFB-9A91-966FCE6E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223B-9957-4859-AB72-31BC0B71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A45B-AE4B-482F-9D39-253B06460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.au/imgres?imgurl=http://www.stargazerperennials.com/images/alpine-strawberry-plant-wit_qb0q.jpg&amp;imgrefurl=http://www.stargazerperennials.com/ALPINE_STRAWBERRIES.html&amp;usg=__I717kIcxrKVvlnK0qbQTxRTB5Oc=&amp;h=300&amp;w=300&amp;sz=20&amp;hl=en&amp;start=4&amp;um=1&amp;itbs=1&amp;tbnid=6gxY-NSasw7UYM:&amp;tbnh=116&amp;tbnw=116&amp;prev=/images%3Fq%3Dstrawberry%2Bplant%26um%3D1%26hl%3Den%26rls%3Dcom.microsoft:en-us:IE-SearchBox%26rlz%3D1I7GGLJ_en%26tbs%3Disch: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com.au/imgres?imgurl=http://aggie-horticulture.tamu.edu/extension/texascrops/leafygreensandpetioles/lettuce.jpg&amp;imgrefurl=http://aggie-horticulture.tamu.edu/extension/texascrops/leafygreensandpetioles/index.html&amp;usg=__4le4lvxl8QuhRHOseQxJA9SFM3s=&amp;h=752&amp;w=800&amp;sz=125&amp;hl=en&amp;start=3&amp;um=1&amp;itbs=1&amp;tbnid=AKr5WmPDo3A4QM:&amp;tbnh=134&amp;tbnw=143&amp;prev=/images%3Fq%3Dlettuce%26um%3D1%26hl%3Den%26rls%3Dcom.microsoft:en-us:IE-SearchBox%26rlz%3D1I7GGLJ_en%26tbs%3Disch: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google.com.au/imgres?imgurl=http://www.hort.purdue.edu/ext/senior/vegetabl/images/large/peaplant2.jpg&amp;imgrefurl=http://www.hort.purdue.edu/ext/senior/vegetabl/peas3.htm&amp;usg=__O0IcEDkBPctBVOhyOhrsk6LBZBY=&amp;h=493&amp;w=640&amp;sz=76&amp;hl=en&amp;start=18&amp;um=1&amp;itbs=1&amp;tbnid=VlxilhE5t7yTTM:&amp;tbnh=106&amp;tbnw=137&amp;prev=/images%3Fq%3Dpeas%2Bplant%26um%3D1%26hl%3Den%26rls%3Dcom.microsoft:en-us:IE-SearchBox%26rlz%3D1I7GGLJ_en%26tbs%3Disch:1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www.google.com.au/imgres?imgurl=http://www.greathomeremedies.com/herbs/images/garlic.jpg&amp;imgrefurl=http://www.greathomeremedies.com/herbs/garlic.html&amp;usg=__Upj5BXZHNKE1tjSjhWa6yt2ojdw=&amp;h=486&amp;w=324&amp;sz=143&amp;hl=en&amp;start=4&amp;um=1&amp;itbs=1&amp;tbnid=kcy92J6dcA3DhM:&amp;tbnh=129&amp;tbnw=86&amp;prev=/images%3Fq%3Dgarlic%2Bplant%26um%3D1%26hl%3Den%26rls%3Dcom.microsoft:en-us:IE-SearchBox%26rlz%3D1I7GGLJ_en%26tbs%3Disch:1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www.google.com.au/imgres?imgurl=http://www.real-depression-help.com/image-files/depression-basil.jpg&amp;imgrefurl=http://www.real-depression-help.com/depression-diet.html&amp;usg=__6rZFx-yEdyO84TqxpOfdg3qyFS8=&amp;h=523&amp;w=640&amp;sz=92&amp;hl=en&amp;start=1&amp;um=1&amp;itbs=1&amp;tbnid=s1hIERGPexOQ1M:&amp;tbnh=112&amp;tbnw=137&amp;prev=/images%3Fq%3Dbasil%26um%3D1%26hl%3Den%26rls%3Dcom.microsoft:en-us:IE-SearchBox%26rlz%3D1I7GGLJ_en%26tbs%3Disch:1" TargetMode="External"/><Relationship Id="rId10" Type="http://schemas.openxmlformats.org/officeDocument/2006/relationships/image" Target="../media/image5.jpeg"/><Relationship Id="rId11" Type="http://schemas.openxmlformats.org/officeDocument/2006/relationships/image" Target="../media/image6.jpeg"/><Relationship Id="rId12" Type="http://schemas.openxmlformats.org/officeDocument/2006/relationships/hyperlink" Target="http://www.google.com.au/imgres?imgurl=http://expat21.files.wordpress.com/2008/12/mint-leaves.jpg&amp;imgrefurl=http://expat21.wordpress.com/2008/12/30/party-with-authentic-cuban-mohitos-from-havana/&amp;usg=__rpHTdU9zbV14sTh1MjAxjGktu8s=&amp;h=960&amp;w=1280&amp;sz=235&amp;hl=en&amp;start=1&amp;um=1&amp;itbs=1&amp;tbnid=sVr7Axi0daUmSM:&amp;tbnh=113&amp;tbnw=150&amp;prev=/images%3Fq%3Dmint%26um%3D1%26hl%3Den%26rls%3Dcom.microsoft:en-us:IE-SearchBox%26rlz%3D1I7GGLJ_en%26tbs%3Disch:1" TargetMode="External"/><Relationship Id="rId13" Type="http://schemas.openxmlformats.org/officeDocument/2006/relationships/image" Target="../media/image7.jpeg"/><Relationship Id="rId14" Type="http://schemas.openxmlformats.org/officeDocument/2006/relationships/hyperlink" Target="http://www.google.com.au/imgres?imgurl=http://www.dreamstime.com/cherry-tomato-plant-thumb146147.jpg&amp;imgrefurl=http://www.dreamstime.com/royalty-free-stock-photography-cherry-tomato-plant-image146147&amp;usg=__EIGwZhglxssIhu3JSXJ84ou-sV4=&amp;h=286&amp;w=300&amp;sz=71&amp;hl=en&amp;start=9&amp;um=1&amp;itbs=1&amp;tbnid=0RdJEyzSfYLIVM:&amp;tbnh=111&amp;tbnw=116&amp;prev=/images%3Fq%3Dtomato%2Bplant%26um%3D1%26hl%3Den%26rls%3Dcom.microsoft:en-us:IE-SearchBox%26rlz%3D1I7GGLJ_en%26tbs%3Disch:1" TargetMode="External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.au/imgres?imgurl=http://www.hcda.or.ke/pro/carrot.jpg&amp;imgrefurl=http://www.hcda.or.ke/Vacanies.htm&amp;usg=__uvGi85EJnzVnCygQGp_le6eEGU8=&amp;h=665&amp;w=350&amp;sz=28&amp;hl=en&amp;start=8&amp;um=1&amp;itbs=1&amp;tbnid=sf_pdaBnK6_SQM:&amp;tbnh=138&amp;tbnw=73&amp;prev=/images%3Fq%3Dcarrot%26um%3D1%26hl%3Den%26sa%3DN%26rls%3Dcom.microsoft:en-us:IE-SearchBox%26rlz%3D1I7GGLJ_en%26tbs%3Disch:1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google.com.au/imgres?imgurl=http://missybrandt.files.wordpress.com/2008/04/image.jpg&amp;imgrefurl=http://missybrandt.wordpress.com/2008/04/13/plant-types/&amp;usg=__U4qYj64H24n8f9e9u-sY4CNJMtQ=&amp;h=450&amp;w=351&amp;sz=20&amp;hl=en&amp;start=4&amp;um=1&amp;itbs=1&amp;tbnid=PIqFFgrD1CFmfM:&amp;tbnh=127&amp;tbnw=99&amp;prev=/images%3Fq%3Dpotato%2Bplant%26um%3D1%26hl%3Den%26rls%3Dcom.microsoft:en-us:IE-SearchBox%26rlz%3D1I7GGLJ_en%26tbs%3Disch:1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www.organicgardeningebook.com/images/organic-vegetable-gardening-beans-plant.jpg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www.google.com.au/imgres?imgurl=http://www.kittysoaps.co.uk/images/beetroot.jpg&amp;imgrefurl=http://www.kittysoaps.co.uk/index.php%3Fmain_page%3Dalpha_product_listing%26cPath%3D121&amp;usg=__wjmjMsyUMwU9bJDXdr0Yn6MGfC4=&amp;h=400&amp;w=300&amp;sz=97&amp;hl=en&amp;start=16&amp;um=1&amp;itbs=1&amp;tbnid=gwcEzYw4IbQrRM:&amp;tbnh=124&amp;tbnw=93&amp;prev=/images%3Fq%3Dbeetroot%26um%3D1%26hl%3Den%26rls%3Dcom.microsoft:en-us:IE-SearchBox%26rlz%3D1I7GGLJ_en%26tbs%3Disch:1" TargetMode="External"/><Relationship Id="rId8" Type="http://schemas.openxmlformats.org/officeDocument/2006/relationships/image" Target="../media/image12.jpeg"/><Relationship Id="rId9" Type="http://schemas.openxmlformats.org/officeDocument/2006/relationships/hyperlink" Target="http://www.google.com.au/imgres?imgurl=http://lailagardens.com/Laila%2520Gardens/Assets/Green_Spinach2.jpg&amp;imgrefurl=http://lailagardens.com/Laila%2520Gardens/Assets/&amp;usg=__O936yM4CJckgUu7Pmmxjb-uFti8=&amp;h=400&amp;w=400&amp;sz=36&amp;hl=en&amp;start=6&amp;um=1&amp;itbs=1&amp;tbnid=-RCyZCiSRwIl5M:&amp;tbnh=124&amp;tbnw=124&amp;prev=/images%3Fq%3Dspinach%26um%3D1%26hl%3Den%26rls%3Dcom.microsoft:en-us:IE-SearchBox%26rlz%3D1I7GGLJ_en%26tbs%3Disch:1" TargetMode="External"/><Relationship Id="rId10" Type="http://schemas.openxmlformats.org/officeDocument/2006/relationships/image" Target="../media/image13.jpeg"/><Relationship Id="rId11" Type="http://schemas.openxmlformats.org/officeDocument/2006/relationships/hyperlink" Target="http://www.google.com.au/imgres?imgurl=http://images.meredith.com/bhg/images/2008/10/p_SIP912623.jpg&amp;imgrefurl=http://www.bhg.com/gardening/plant-dictionary/herb/cilantro/&amp;usg=__OS_HDwvkDt8y2MNeFHQ_dUgXL1o=&amp;h=360&amp;w=360&amp;sz=53&amp;hl=en&amp;start=17&amp;um=1&amp;itbs=1&amp;tbnid=IvjOadLBOGAHMM:&amp;tbnh=121&amp;tbnw=121&amp;prev=/images%3Fq%3Dcoriander%2Bplant%26um%3D1%26hl%3Den%26rls%3Dcom.microsoft:en-us:IE-SearchBox%26rlz%3D1I7GGLJ_en%26tbs%3Disch:1" TargetMode="External"/><Relationship Id="rId12" Type="http://schemas.openxmlformats.org/officeDocument/2006/relationships/image" Target="../media/image14.jpeg"/><Relationship Id="rId13" Type="http://schemas.openxmlformats.org/officeDocument/2006/relationships/hyperlink" Target="http://www.google.com.au/imgres?imgurl=http://jerusalem-gate.netfirms.com/store/nfoscomm/catalog/images/sage.jpg&amp;imgrefurl=http://jerusalem-gate.netfirms.com/store/nfoscomm/catalog/product_info.php%3Fproducts_id%3D125%26osCsid%3D5e32f7fe002d612c428dafc5112eb618&amp;usg=__BAvLOSSsftm3ixTVBJ5Kt5le3bo=&amp;h=480&amp;w=640&amp;sz=109&amp;hl=en&amp;start=3&amp;um=1&amp;itbs=1&amp;tbnid=yqsnsVPusUcOsM:&amp;tbnh=103&amp;tbnw=137&amp;prev=/images%3Fq%3Dsage%26um%3D1%26hl%3Den%26rls%3Dcom.microsoft:en-us:IE-SearchBox%26rlz%3D1I7GGLJ_en%26tbs%3Disch:1" TargetMode="External"/><Relationship Id="rId14" Type="http://schemas.openxmlformats.org/officeDocument/2006/relationships/image" Target="../media/image15.jpeg"/><Relationship Id="rId15" Type="http://schemas.openxmlformats.org/officeDocument/2006/relationships/hyperlink" Target="http://www.google.com.au/imgres?imgurl=https://www.abceeds.com/v/vspfiles/assets/images/radishs.jpg&amp;imgrefurl=https://www.abceeds.com/searchresults.asp%3Fcat%3D88&amp;usg=__IsIYPL2JkupVgobgbzQgxvAAxsk=&amp;h=289&amp;w=377&amp;sz=23&amp;hl=en&amp;start=1&amp;um=1&amp;itbs=1&amp;tbnid=uUoVAEgJKBfNVM:&amp;tbnh=94&amp;tbnw=122&amp;prev=/images%3Fq%3Dradish%26um%3D1%26hl%3Den%26rls%3Dcom.microsoft:en-us:IE-SearchBox%26rlz%3D1I7GGLJ_en%26tbs%3Disch:1" TargetMode="External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.au/imgres?imgurl=http://www.firehousedesign.net/h2ofarms/thymeHero.jpg&amp;imgrefurl=http://www.firehousedesign.net/h2ofarms/thyme.html&amp;usg=__XGU5P-i-H7B4tvpiL-Y-hdF4a5c=&amp;h=481&amp;w=314&amp;sz=67&amp;hl=en&amp;start=11&amp;um=1&amp;itbs=1&amp;tbnid=38Ft6K1Upce7uM:&amp;tbnh=129&amp;tbnw=84&amp;prev=/images%3Fq%3Dthyme%26um%3D1%26hl%3Den%26sa%3DN%26rls%3Dcom.microsoft:en-us:IE-SearchBox%26rlz%3D1I7GGLJ_en%26tbs%3Disch:1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image" Target="../media/image19.jpeg"/><Relationship Id="rId5" Type="http://schemas.openxmlformats.org/officeDocument/2006/relationships/hyperlink" Target="http://www.google.com.au/imgres?imgurl=http://gstuff.co.nz/shop/garden/images/butterbeansgoldenwax.jpg&amp;imgrefurl=http://gstuff.co.nz/shop/garden/index.php%3Fmain_page%3Dproduct_info%26products_id%3D665%26zenid%3D7df40afc812bcd7f04c2cff568c697b1&amp;usg=__rHqINA3EzCB7MA-3TTQLGiVr430=&amp;h=621&amp;w=612&amp;sz=41&amp;hl=en&amp;start=17&amp;um=1&amp;itbs=1&amp;tbnid=jmo-rrUjVbZRUM:&amp;tbnh=136&amp;tbnw=134&amp;prev=/images%3Fq%3Dbutter%2Bbeans%26um%3D1%26hl%3Den%26sa%3DX%26rls%3Dcom.microsoft:en-us:IE-SearchBox%26rlz%3D1I7GGLJ_en%26tbs%3Disch:1" TargetMode="External"/><Relationship Id="rId6" Type="http://schemas.openxmlformats.org/officeDocument/2006/relationships/image" Target="../media/image20.jpeg"/><Relationship Id="rId7" Type="http://schemas.openxmlformats.org/officeDocument/2006/relationships/hyperlink" Target="http://www.google.com.au/imgres?imgurl=http://www.bijlmakers.com/vegetables/cauliflower/Cauliflower%2520plant.JPG&amp;imgrefurl=http://www.bijlmakers.com/vegetables/cauliflower.htm&amp;usg=__jZoK2unJuBJ_aDQu_vTr_1Pjmrg=&amp;h=300&amp;w=400&amp;sz=44&amp;hl=en&amp;start=3&amp;um=1&amp;itbs=1&amp;tbnid=dOBi67W1Le2PUM:&amp;tbnh=93&amp;tbnw=124&amp;prev=/images%3Fq%3Dcauliflower%2Bplant%26um%3D1%26hl%3Den%26rls%3Dcom.microsoft:en-us:IE-SearchBox%26rlz%3D1I7GGLJ_en%26tbs%3Disch:1" TargetMode="External"/><Relationship Id="rId8" Type="http://schemas.openxmlformats.org/officeDocument/2006/relationships/image" Target="../media/image21.jpeg"/><Relationship Id="rId9" Type="http://schemas.openxmlformats.org/officeDocument/2006/relationships/hyperlink" Target="http://www.google.com.au/imgres?imgurl=http://www.aquaponica.com.au/images/broccoli.jpg&amp;imgrefurl=http://www.aquaponica.com.au/Information.html&amp;usg=__oYXUae-vWHJbRT99b7aG4JVkPRM=&amp;h=351&amp;w=376&amp;sz=108&amp;hl=en&amp;start=5&amp;um=1&amp;itbs=1&amp;tbnid=_gHDKWQsfx4nGM:&amp;tbnh=114&amp;tbnw=122&amp;prev=/images%3Fq%3Dbroccoli%2Bplant%26um%3D1%26hl%3Den%26rls%3Dcom.microsoft:en-us:IE-SearchBox%26rlz%3D1I7GGLJ_en%26tbs%3Disch:1" TargetMode="External"/><Relationship Id="rId10" Type="http://schemas.openxmlformats.org/officeDocument/2006/relationships/image" Target="../media/image22.jpeg"/><Relationship Id="rId11" Type="http://schemas.openxmlformats.org/officeDocument/2006/relationships/hyperlink" Target="http://www.google.com.au/imgres?imgurl=http://corditecountryshownotes.files.wordpress.com/2009/10/pumpkin.jpg&amp;imgrefurl=http://corditecountryshownotes.wordpress.com/2009/10/17/growing-pumpkins/&amp;usg=__fepWIBSCR7Qhm1gYoEFnNy9hAfI=&amp;h=480&amp;w=640&amp;sz=96&amp;hl=en&amp;start=10&amp;um=1&amp;itbs=1&amp;tbnid=vdLKfGc4AI4RGM:&amp;tbnh=103&amp;tbnw=137&amp;prev=/images%3Fq%3Dpumpkin%26um%3D1%26hl%3Den%26rls%3Dcom.microsoft:en-us:IE-SearchBox%26rlz%3D1I7GGLJ_en%26tbs%3Disch:1" TargetMode="External"/><Relationship Id="rId12" Type="http://schemas.openxmlformats.org/officeDocument/2006/relationships/image" Target="../media/image23.jpeg"/><Relationship Id="rId13" Type="http://schemas.openxmlformats.org/officeDocument/2006/relationships/hyperlink" Target="http://www.google.com.au/imgres?imgurl=http://www.greathomeremedies.com/herbs/images/lemon-balm.gif&amp;imgrefurl=http://www.greathomeremedies.com/herbs/lemonbalm.html&amp;usg=__PV3IQ-Z_r906sqCPXkxOV__Dj9M=&amp;h=300&amp;w=400&amp;sz=116&amp;hl=en&amp;start=11&amp;um=1&amp;itbs=1&amp;tbnid=0ix2HeqLhVLK6M:&amp;tbnh=93&amp;tbnw=124&amp;prev=/images%3Fq%3Dlemon%2Bbalm%26um%3D1%26hl%3Den%26rls%3Dcom.microsoft:en-us:IE-SearchBox%26rlz%3D1I7GGLJ_en%26tbs%3Disch:1" TargetMode="External"/><Relationship Id="rId14" Type="http://schemas.openxmlformats.org/officeDocument/2006/relationships/image" Target="../media/image24.jpeg"/><Relationship Id="rId1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.au/imgres?imgurl=http://charitygrace.files.wordpress.com/2009/04/calendula-officinalis.jpg&amp;imgrefurl=http://charitygrace.wordpress.com/2009/04/&amp;usg=__tGv_eoKj27cJlH5hLsKEFVF-IdM=&amp;h=534&amp;w=800&amp;sz=319&amp;hl=en&amp;start=10&amp;um=1&amp;itbs=1&amp;tbnid=VulvTlxkpnzCvM:&amp;tbnh=95&amp;tbnw=143&amp;prev=/images%3Fq%3Dcalendula%26um%3D1%26hl%3Den%26rls%3Dcom.microsoft:en-us:IE-SearchBox%26rlz%3D1I7GGLJ_en%26tbs%3Disch:1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www.google.com.au/imgres?imgurl=http://upload.wikimedia.org/wikipedia/commons/e/ee/Calendula_officinalis_g1.jpg&amp;imgrefurl=http://commons.wikimedia.org/wiki/File:Calendula_officinalis_g1.jpg&amp;usg=__aGR7lnPr9_h7gpBXFZEWn1cvlOg=&amp;h=1600&amp;w=1600&amp;sz=1522&amp;hl=en&amp;start=11&amp;um=1&amp;itbs=1&amp;tbnid=SGOlW6WhIpNrCM:&amp;tbnh=150&amp;tbnw=150&amp;prev=/images%3Fq%3Dcalendula%2Bmarigold%26um%3D1%26hl%3Den%26rls%3Dcom.microsoft:en-us:IE-SearchBox%26rlz%3D1I7GGLJ_en%26tbs%3Disch:1" TargetMode="External"/><Relationship Id="rId4" Type="http://schemas.openxmlformats.org/officeDocument/2006/relationships/image" Target="../media/image26.jpeg"/><Relationship Id="rId5" Type="http://schemas.openxmlformats.org/officeDocument/2006/relationships/hyperlink" Target="http://www.google.com.au/imgres?imgurl=http://www.pattayadailynews.com/images_feature/006_en/0000000337/p3.jpg&amp;imgrefurl=http://picsdigger.com/domain/pattayadailynews.com/&amp;usg=__pRiGIdW7YImo5HplP8m3s5iR6Mg=&amp;h=371&amp;w=495&amp;sz=34&amp;hl=en&amp;start=14&amp;um=1&amp;itbs=1&amp;tbnid=zxV_MGj8B1TejM:&amp;tbnh=97&amp;tbnw=130&amp;prev=/images%3Fq%3Dpak%2Bchoi%26um%3D1%26hl%3Den%26rls%3Dcom.microsoft:en-us:IE-SearchBox%26rlz%3D1I7GGLJ_en%26tbs%3Disch:1" TargetMode="External"/><Relationship Id="rId6" Type="http://schemas.openxmlformats.org/officeDocument/2006/relationships/image" Target="../media/image27.jpeg"/><Relationship Id="rId7" Type="http://schemas.openxmlformats.org/officeDocument/2006/relationships/hyperlink" Target="http://www.google.com.au/imgres?imgurl=http://www.laimadinner.ch/DocUpload/cos_lettuce-Laitue_Romaine.jpg&amp;imgrefurl=http://www.laimadinner.ch/index.php%3Frubrique%3D39%26langue%3DE&amp;usg=__cDPEqJjUEtFwnsUVpg7e6JX1ahA=&amp;h=250&amp;w=166&amp;sz=8&amp;hl=en&amp;start=5&amp;um=1&amp;itbs=1&amp;tbnid=jCI0uOl9r1X_sM:&amp;tbnh=111&amp;tbnw=74&amp;prev=/images%3Fq%3Dcos%2Blettuce%26um%3D1%26hl%3Den%26rls%3Dcom.microsoft:en-us:IE-SearchBox%26rlz%3D1I7GGLJ_en%26tbs%3Disch:1" TargetMode="External"/><Relationship Id="rId8" Type="http://schemas.openxmlformats.org/officeDocument/2006/relationships/image" Target="../media/image28.jpeg"/><Relationship Id="rId9" Type="http://schemas.openxmlformats.org/officeDocument/2006/relationships/hyperlink" Target="http://www.google.com.au/imgres?imgurl=http://www.mark-ju.net/images/nasturtium.jpg&amp;imgrefurl=http://www.mark-ju.net/recipes/pickled_nasturtium.htm&amp;usg=__qKf0nY7Crumfu3NJSFAjPqhzMTo=&amp;h=316&amp;w=400&amp;sz=25&amp;hl=en&amp;start=7&amp;um=1&amp;itbs=1&amp;tbnid=8QA_RaxfTcgu0M:&amp;tbnh=98&amp;tbnw=124&amp;prev=/images%3Fq%3Dnasturtium%26um%3D1%26hl%3Den%26rls%3Dcom.microsoft:en-us:IE-SearchBox%26rlz%3D1I7GGLJ_en%26tbs%3Disch:1" TargetMode="External"/><Relationship Id="rId10" Type="http://schemas.openxmlformats.org/officeDocument/2006/relationships/image" Target="../media/image29.jpeg"/><Relationship Id="rId11" Type="http://schemas.openxmlformats.org/officeDocument/2006/relationships/hyperlink" Target="http://upload.wikimedia.org/wikipedia/commons/b/bd/Broad_bean.jpg" TargetMode="External"/><Relationship Id="rId12" Type="http://schemas.openxmlformats.org/officeDocument/2006/relationships/image" Target="../media/image30.jpeg"/><Relationship Id="rId13" Type="http://schemas.openxmlformats.org/officeDocument/2006/relationships/image" Target="../media/image31.jpeg"/><Relationship Id="rId14" Type="http://schemas.openxmlformats.org/officeDocument/2006/relationships/hyperlink" Target="http://www.chickeneggdesign.com/portfolio1/theSpiceCabinet/images/rosemary1.jpg" TargetMode="External"/><Relationship Id="rId15" Type="http://schemas.openxmlformats.org/officeDocument/2006/relationships/image" Target="../media/image32.jpeg"/><Relationship Id="rId1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indowboxherbs.50megs.com/Chamomile_Flower.JPG&amp;imgrefurl=http://www.empowermentweekly.com/2010/01/health-chamomile.html&amp;usg=__yABgoc7go0_gWWCf2lLwuvE6oEY=&amp;h=1024&amp;w=768&amp;sz=34&amp;hl=en&amp;start=4&amp;itbs=1&amp;tbnid=OzlI_BZmam4OzM:&amp;tbnh=150&amp;tbnw=113&amp;prev=/images%3Fq%3Dchamomile%2Bsmall%26hl%3Den%26gbv%3D2%26tbs%3Disch:1" TargetMode="External"/><Relationship Id="rId2" Type="http://schemas.openxmlformats.org/officeDocument/2006/relationships/image" Target="../media/image33.jpeg"/><Relationship Id="rId3" Type="http://schemas.openxmlformats.org/officeDocument/2006/relationships/hyperlink" Target="http://www.google.com/imgres?imgurl=http://www.home.aone.net.au/~hydroponics/hydro%252030.jpg&amp;imgrefurl=http://www.home.aone.net.au/~hydroponics/faq.html&amp;usg=___FmWt_seFLxNwdzexRMjmle95EU=&amp;h=599&amp;w=800&amp;sz=27&amp;hl=en&amp;start=2&amp;itbs=1&amp;tbnid=yYGlcCYLq7ngQM:&amp;tbnh=107&amp;tbnw=143&amp;prev=/images%3Fq%3Dcabbage%2Bplant%2Bsugar%2Bloaf%26hl%3Den%26gbv%3D2%26tbs%3Disch:1" TargetMode="External"/><Relationship Id="rId4" Type="http://schemas.openxmlformats.org/officeDocument/2006/relationships/image" Target="../media/image34.jpeg"/><Relationship Id="rId5" Type="http://schemas.openxmlformats.org/officeDocument/2006/relationships/hyperlink" Target="http://www.google.com/imgres?imgurl=http://www.seedfest.co.uk/seeds/herbs/fennel.jpg&amp;imgrefurl=http://www.seedfest.co.uk/seeds/herbs/herbs.html&amp;usg=__rCXxaxvmCJ8_AHBxrpiwX1YFT1I=&amp;h=866&amp;w=554&amp;sz=290&amp;hl=en&amp;start=4&amp;itbs=1&amp;tbnid=QgLK1uN1AFFq8M:&amp;tbnh=145&amp;tbnw=93&amp;prev=/images%3Fq%3Dfennel%26hl%3Den%26gbv%3D2%26tbs%3Disch:1" TargetMode="External"/><Relationship Id="rId6" Type="http://schemas.openxmlformats.org/officeDocument/2006/relationships/image" Target="../media/image35.jpeg"/><Relationship Id="rId7" Type="http://schemas.openxmlformats.org/officeDocument/2006/relationships/hyperlink" Target="http://www.google.com/imgres?imgurl=http://www.thevillagetc.com/blog/wp-content/uploads/2010/02/lavender.jpg&amp;imgrefurl=http://www.thevillagetc.com/blog/&amp;usg=__7KEAXtp3a_7SXhJjvch2b7m5TMA=&amp;h=1536&amp;w=2355&amp;sz=1515&amp;hl=en&amp;start=8&amp;itbs=1&amp;tbnid=78CQRVLJXFdwGM:&amp;tbnh=98&amp;tbnw=150&amp;prev=/images%3Fq%3Dlavender%26hl%3Den%26gbv%3D2%26tbs%3Disch:1" TargetMode="External"/><Relationship Id="rId8" Type="http://schemas.openxmlformats.org/officeDocument/2006/relationships/image" Target="../media/image36.jpeg"/><Relationship Id="rId9" Type="http://schemas.openxmlformats.org/officeDocument/2006/relationships/hyperlink" Target="http://www.google.com/imgres?imgurl=http://thingtheory2009.files.wordpress.com/2009/05/corn.jpg&amp;imgrefurl=http://thingtheory2009.wordpress.com/2009/05/15/stir-crazy-the-power-of-pop/&amp;usg=__-3v9zomTqA8zCk0SlBSHyKH8ss8=&amp;h=1026&amp;w=1284&amp;sz=285&amp;hl=en&amp;start=4&amp;itbs=1&amp;tbnid=i3VCzG8f421EyM:&amp;tbnh=120&amp;tbnw=150&amp;prev=/images%3Fq%3Dcorn%26hl%3Den%26gbv%3D2%26tbs%3Disch:1" TargetMode="External"/><Relationship Id="rId10" Type="http://schemas.openxmlformats.org/officeDocument/2006/relationships/image" Target="../media/image37.jpeg"/><Relationship Id="rId11" Type="http://schemas.openxmlformats.org/officeDocument/2006/relationships/hyperlink" Target="http://www.google.com/imgres?imgurl=http://hkcssst.net/members/sauwan/May/images/choko_JPG.jpg&amp;imgrefurl=http://hkcssst.net/members/sauwan/May/pages/choko_JPG.htm&amp;usg=__g0u69YyRIYCl9KsXXOY31Pdblgc=&amp;h=600&amp;w=800&amp;sz=83&amp;hl=en&amp;start=4&amp;itbs=1&amp;tbnid=WMychfpkq0uUZM:&amp;tbnh=107&amp;tbnw=143&amp;prev=/images%3Fq%3Dchoko%26hl%3Den%26gbv%3D2%26tbs%3Disch:1" TargetMode="External"/><Relationship Id="rId12" Type="http://schemas.openxmlformats.org/officeDocument/2006/relationships/image" Target="../media/image38.jpeg"/><Relationship Id="rId13" Type="http://schemas.openxmlformats.org/officeDocument/2006/relationships/hyperlink" Target="http://www.google.com/imgres?imgurl=http://www.pccnaturalmarkets.com/pcc/sites/default/files/2218/celery.JPG&amp;imgrefurl=http://www.pccnaturalmarkets.com/pcc/blogs/stirfry/2009/04/29/fresh-forecast-organic-celery-supplies-tight-full-circle-salad-mix-next-wee&amp;usg=__cVJny9gNP3783ZOYhAx-n_NEL7U=&amp;h=341&amp;w=396&amp;sz=55&amp;hl=en&amp;start=15&amp;itbs=1&amp;tbnid=8xunZzcBaNwKoM:&amp;tbnh=107&amp;tbnw=124&amp;prev=/images%3Fq%3Dcelery%26hl%3Den%26gbv%3D2%26tbs%3Disch:1" TargetMode="External"/><Relationship Id="rId14" Type="http://schemas.openxmlformats.org/officeDocument/2006/relationships/image" Target="../media/image39.jpeg"/><Relationship Id="rId15" Type="http://schemas.openxmlformats.org/officeDocument/2006/relationships/hyperlink" Target="http://www.google.com/imgres?imgurl=http://www.kidsandfruit.org.au/cms/images/stories/mandarin_orange3.jpg&amp;imgrefurl=http://www.kidsandfruit.org.au/cms/index.php%3Foption%3Dcom_acajoom%26act%3Dmailing%26task%3Dview%26listid%3D1%26mailingid%3D33%26Itemid%3D99&amp;usg=__1DaO4mmdUHX14sQg7h8BY7s7xvQ=&amp;h=320&amp;w=400&amp;sz=68&amp;hl=en&amp;start=8&amp;itbs=1&amp;tbnid=Eq4bGC7G_HHaAM:&amp;tbnh=99&amp;tbnw=124&amp;prev=/images%3Fq%3Dmandarin%26hl%3Den%26gbv%3D2%26tbs%3Disch:1" TargetMode="External"/><Relationship Id="rId16" Type="http://schemas.openxmlformats.org/officeDocument/2006/relationships/image" Target="../media/image40.jpeg"/><Relationship Id="rId1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freshlink.org/Pictures/garlic-chive.jpg&amp;imgrefurl=http://www.freshlink.org/Pricing.html&amp;usg=__z0oIAaZZxH1MyZScKee3UpRTHss=&amp;h=286&amp;w=286&amp;sz=16&amp;hl=en&amp;start=5&amp;itbs=1&amp;tbnid=NZirtPjpjGjrrM:&amp;tbnh=115&amp;tbnw=115&amp;prev=/images%3Fq%3Dchives%26hl%3Den%26gbv%3D2%26tbs%3Disch:1" TargetMode="External"/><Relationship Id="rId2" Type="http://schemas.openxmlformats.org/officeDocument/2006/relationships/image" Target="../media/image41.jpeg"/><Relationship Id="rId3" Type="http://schemas.openxmlformats.org/officeDocument/2006/relationships/hyperlink" Target="http://www.google.com.au/imgres?imgurl=http://www.permacultureliving.com.au/diary/wp-content/uploads/2009/01/ripening-rockmelon.jpg&amp;imgrefurl=http://www.permacultureliving.com.au/&amp;usg=__53cbCRHEFvUelovksMlOeKLZ12w=&amp;h=640&amp;w=480&amp;sz=110&amp;hl=en&amp;start=16&amp;um=1&amp;itbs=1&amp;tbnid=dnSzgny2FS2tbM:&amp;tbnh=137&amp;tbnw=103&amp;prev=/images%3Fq%3Drockmelon%2Bplant%26um%3D1%26hl%3Den%26rls%3Dcom.microsoft:en-us:IE-SearchBox%26rlz%3D1I7GGLJ_en%26tbs%3Disch:1" TargetMode="External"/><Relationship Id="rId4" Type="http://schemas.openxmlformats.org/officeDocument/2006/relationships/image" Target="../media/image42.jpeg"/><Relationship Id="rId5" Type="http://schemas.openxmlformats.org/officeDocument/2006/relationships/hyperlink" Target="http://www.google.com.au/imgres?imgurl=http://www.ausgardener.com.au/product_images/b/fruit_marami_cumquat__42718.jpg&amp;imgrefurl=http://www.ausgardener.com.au/plants/Marumi-Cumquat.html&amp;usg=__t0pPOyHhnShh7q5hRXNq5-rq5B0=&amp;h=541&amp;w=600&amp;sz=55&amp;hl=en&amp;start=7&amp;um=1&amp;itbs=1&amp;tbnid=f4tLztFvPq3ahM:&amp;tbnh=122&amp;tbnw=135&amp;prev=/images%3Fq%3Dcumquat%26um%3D1%26hl%3Den%26rls%3Dcom.microsoft:en-us:IE-SearchBox%26rlz%3D1I7GGLJ_en%26tbs%3Disch:1" TargetMode="External"/><Relationship Id="rId6" Type="http://schemas.openxmlformats.org/officeDocument/2006/relationships/image" Target="../media/image43.jpeg"/><Relationship Id="rId7" Type="http://schemas.openxmlformats.org/officeDocument/2006/relationships/hyperlink" Target="http://www.google.com.au/imgres?imgurl=http://silviahartmann.com/background-tile/images/01-lemon-tree-background.jpg&amp;imgrefurl=http://silviahartmann.com/background-tile/14a-fruit-background-tile2.php&amp;usg=__NvnDcDxxXvUowuxQ5BWy1Hr4nr8=&amp;h=353&amp;w=527&amp;sz=33&amp;hl=en&amp;start=10&amp;um=1&amp;itbs=1&amp;tbnid=0Fv_-E2I5y-EBM:&amp;tbnh=88&amp;tbnw=132&amp;prev=/images%3Fq%3Dlemon%26um%3D1%26hl%3Den%26rls%3Dcom.microsoft:en-us:IE-SearchBox%26rlz%3D1I7GGLJ_en%26tbs%3Disch:1" TargetMode="External"/><Relationship Id="rId8" Type="http://schemas.openxmlformats.org/officeDocument/2006/relationships/image" Target="../media/image44.jpeg"/><Relationship Id="rId9" Type="http://schemas.openxmlformats.org/officeDocument/2006/relationships/hyperlink" Target="http://www.google.com.au/imgres?imgurl=http://www.ediblelandscaping.com/Plants/PlantImages/citrus%2520persian%2520lime.jpg&amp;imgrefurl=http://www.ediblelandscaping.com/plants.php%3Ffunc%3Dview%26id%3D93&amp;usg=__4_KEr59opU03qgqp2iQIpfEDSVg=&amp;h=635&amp;w=892&amp;sz=116&amp;hl=en&amp;start=7&amp;um=1&amp;itbs=1&amp;tbnid=3jTQbw6S9ln3kM:&amp;tbnh=104&amp;tbnw=146&amp;prev=/images%3Fq%3Dlime%2Bplant%26um%3D1%26hl%3Den%26rls%3Dcom.microsoft:en-us:IE-SearchBox%26rlz%3D1I7GGLJ_en%26tbs%3Disch:1" TargetMode="External"/><Relationship Id="rId10" Type="http://schemas.openxmlformats.org/officeDocument/2006/relationships/image" Target="../media/image45.jpeg"/><Relationship Id="rId11" Type="http://schemas.openxmlformats.org/officeDocument/2006/relationships/hyperlink" Target="http://www.google.com.au/imgres?imgurl=http://www.addo-goodhope.co.za/pics/big/orangetree.jpg&amp;imgrefurl=http://www.addo-goodhope.co.za/pages/orangetree.htm&amp;usg=__ubBfAmu2CgvHiFigyzAoh6RODIA=&amp;h=500&amp;w=375&amp;sz=31&amp;hl=en&amp;start=4&amp;um=1&amp;itbs=1&amp;tbnid=zAEc-Mg5mXqAuM:&amp;tbnh=130&amp;tbnw=98&amp;prev=/images%3Fq%3Dorange%2Btree%26um%3D1%26hl%3Den%26rls%3Dcom.microsoft:en-us:IE-SearchBox%26rlz%3D1I7GGLJ_en%26tbs%3Disch:1" TargetMode="External"/><Relationship Id="rId12" Type="http://schemas.openxmlformats.org/officeDocument/2006/relationships/image" Target="../media/image46.jpeg"/><Relationship Id="rId13" Type="http://schemas.openxmlformats.org/officeDocument/2006/relationships/hyperlink" Target="http://www.google.com.au/imgres?imgurl=http://pics.davesgarden.com/pics/2002/11/22/jkom51/575b29.jpg&amp;imgrefurl=http://davesgarden.com/guides/pf/showimage/11676/&amp;usg=__A5ijJ5JHtRfQ6G-aDs4gdreSdtQ=&amp;h=480&amp;w=640&amp;sz=73&amp;hl=en&amp;start=10&amp;um=1&amp;itbs=1&amp;tbnid=5mLyQHkNhnXqWM:&amp;tbnh=103&amp;tbnw=137&amp;prev=/images%3Fq%3Dcurry%2Bplant%26um%3D1%26hl%3Den%26rls%3Dcom.microsoft:en-us:IE-SearchBox%26rlz%3D1I7GGLJ_en%26tbs%3Disch:1" TargetMode="External"/><Relationship Id="rId14" Type="http://schemas.openxmlformats.org/officeDocument/2006/relationships/image" Target="../media/image47.jpeg"/><Relationship Id="rId15" Type="http://schemas.openxmlformats.org/officeDocument/2006/relationships/hyperlink" Target="http://www.google.com.au/imgres?imgurl=http://electrocomm.tripod.com/naboturnip.jpg&amp;imgrefurl=http://electrocomm.tripod.com/nabo_turnip.html&amp;usg=__71Zj2G71Xa3qJQn0U7Y5InPQvdk=&amp;h=323&amp;w=500&amp;sz=90&amp;hl=en&amp;start=7&amp;um=1&amp;itbs=1&amp;tbnid=eZX8_VDvCNvcXM:&amp;tbnh=84&amp;tbnw=130&amp;prev=/images%3Fq%3Dturnip%2Bplant%26um%3D1%26hl%3Den%26rls%3Dcom.microsoft:en-us:IE-SearchBox%26rlz%3D1I7GGLJ_en%26tbs%3Disch:1" TargetMode="External"/><Relationship Id="rId16" Type="http://schemas.openxmlformats.org/officeDocument/2006/relationships/image" Target="../media/image48.jpeg"/><Relationship Id="rId1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.au/imgres?imgurl=http://maddieaboutfood.files.wordpress.com/2009/10/leeks_newbig.jpg&amp;imgrefurl=http://maddieaboutfood.wordpress.com/2009/10/21/the-best-of-fall-fruits-and-veggies/&amp;usg=__zQneNK8-kIDkZNIWbK4usmvv1JA=&amp;h=300&amp;w=300&amp;sz=7&amp;hl=en&amp;start=3&amp;um=1&amp;itbs=1&amp;tbnid=csch963Ll39ohM:&amp;tbnh=116&amp;tbnw=116&amp;prev=/images%3Fq%3Dleeks%26um%3D1%26hl%3Den%26rls%3Dcom.microsoft:en-us:IE-SearchBox%26rlz%3D1I7GGLJ_en%26tbs%3Disch:1" TargetMode="External"/><Relationship Id="rId2" Type="http://schemas.openxmlformats.org/officeDocument/2006/relationships/image" Target="../media/image49.jpeg"/><Relationship Id="rId3" Type="http://schemas.openxmlformats.org/officeDocument/2006/relationships/hyperlink" Target="http://www.google.com.au/imgres?imgurl=http://farm3.static.flickr.com/2316/2524480323_26f2d6877a.jpg&amp;imgrefurl=http://anglo-swiss.blogspot.com/2008/05/my-herb-garden.html&amp;usg=__rEPUDggC8uE5iMZTUoLysbq2Bn8=&amp;h=375&amp;w=500&amp;sz=231&amp;hl=en&amp;start=17&amp;um=1&amp;itbs=1&amp;tbnid=W0Rb0sqmG1nQaM:&amp;tbnh=98&amp;tbnw=130&amp;prev=/images%3Fq%3Dorigano%26um%3D1%26hl%3Den%26rls%3Dcom.microsoft:en-us:IE-SearchBox%26rlz%3D1I7GGLJ_en%26tbs%3Disch:1" TargetMode="External"/><Relationship Id="rId4" Type="http://schemas.openxmlformats.org/officeDocument/2006/relationships/image" Target="../media/image50.jpeg"/><Relationship Id="rId5" Type="http://schemas.openxmlformats.org/officeDocument/2006/relationships/hyperlink" Target="http://www.google.com.au/imgres?imgurl=http://farm1.static.flickr.com/104/309872077_cbc1723b32.jpg%3Fv%3D0&amp;imgrefurl=http://flickr.com/photos/pearlphotos/309872077&amp;usg=__LQuoJxlc0JXyPaQiyEAHX4GVBfA=&amp;h=500&amp;w=478&amp;sz=97&amp;hl=en&amp;start=4&amp;um=1&amp;itbs=1&amp;tbnid=jK6xPeGaDWXQfM:&amp;tbnh=130&amp;tbnw=124&amp;prev=/images%3Fq%3Dpaper%2Bdaisy%2Bpink%26um%3D1%26hl%3Den%26rls%3Dcom.microsoft:en-us:IE-SearchBox%26rlz%3D1I7GGLJ_en%26tbs%3Disch:1" TargetMode="External"/><Relationship Id="rId6" Type="http://schemas.openxmlformats.org/officeDocument/2006/relationships/image" Target="../media/image51.jpeg"/><Relationship Id="rId7" Type="http://schemas.openxmlformats.org/officeDocument/2006/relationships/hyperlink" Target="http://www.google.com.au/imgres?imgurl=http://www.bluestoneperennials.com/images/items/350x350/HERB_Chocolate_Mint.jpg&amp;imgrefurl=http://www.bluestoneperennials.com/b/bp/HCHMIS.html&amp;usg=__oiVoQzsCMAYUNUVzS3_kvagosmY=&amp;h=350&amp;w=280&amp;sz=28&amp;hl=en&amp;start=2&amp;um=1&amp;itbs=1&amp;tbnid=0Am4WKdbFkjYQM:&amp;tbnh=120&amp;tbnw=96&amp;prev=/images%3Fq%3Dchocolate%2Bmint%26um%3D1%26hl%3Den%26rls%3Dcom.microsoft:en-us:IE-SearchBox%26rlz%3D1I7GGLJ_en%26tbs%3Disch:1" TargetMode="External"/><Relationship Id="rId8" Type="http://schemas.openxmlformats.org/officeDocument/2006/relationships/image" Target="../media/image52.jpeg"/><Relationship Id="rId9" Type="http://schemas.openxmlformats.org/officeDocument/2006/relationships/hyperlink" Target="http://www.google.com.au/imgres?imgurl=http://dillydalleydoolittle.typepad.com/photos/uncategorized/2007/04/17/sorrel.jpg&amp;imgrefurl=http://dillydalleydoolittle.typepad.com/dilly_dalley_doolittle_g/autumn/&amp;usg=__3PoR2PFkYx5v7O13l9FUD2RrDuU=&amp;h=600&amp;w=800&amp;sz=119&amp;hl=en&amp;start=2&amp;um=1&amp;itbs=1&amp;tbnid=APvFGB3gzRMUEM:&amp;tbnh=107&amp;tbnw=143&amp;prev=/images%3Fq%3Dsorrel%26um%3D1%26hl%3Den%26rls%3Dcom.microsoft:en-us:IE-SearchBox%26rlz%3D1I7GGLJ_en%26tbs%3Disch:1" TargetMode="External"/><Relationship Id="rId10" Type="http://schemas.openxmlformats.org/officeDocument/2006/relationships/image" Target="../media/image53.jpeg"/><Relationship Id="rId11" Type="http://schemas.openxmlformats.org/officeDocument/2006/relationships/hyperlink" Target="http://www.google.com.au/imgres?imgurl=http://www.mdidea.com/products/proper/chinese_leek_flower02.jpg&amp;imgrefurl=http://www.mdidea.com/products/proper/proper03007.html&amp;usg=__jPM1Z1Ck6TfFfXKNK0iTbAPk1N8=&amp;h=280&amp;w=350&amp;sz=55&amp;hl=en&amp;start=1&amp;um=1&amp;itbs=1&amp;tbnid=3-s3xiiYUpiTLM:&amp;tbnh=96&amp;tbnw=120&amp;prev=/images%3Fq%3Dgarlic%2Bchives%26um%3D1%26hl%3Den%26rls%3Dcom.microsoft:en-us:IE-SearchBox%26rlz%3D1I7GGLJ_en%26tbs%3Disch:1" TargetMode="External"/><Relationship Id="rId12" Type="http://schemas.openxmlformats.org/officeDocument/2006/relationships/image" Target="../media/image54.jpeg"/><Relationship Id="rId13" Type="http://schemas.openxmlformats.org/officeDocument/2006/relationships/hyperlink" Target="http://www.google.com.au/imgres?imgurl=http://1.bp.blogspot.com/_JZlh88EMaiw/Sawb8i_s3QI/AAAAAAAACS0/APvfBRfpYmY/s400/lemon%2Bverbena%2Bleaves%2Band%2Bflowers.JPG&amp;imgrefurl=http://aidanbrooksspices.blogspot.com/2007/10/lemon-verbena.html&amp;usg=__DtgE_I4yGDxRP_Dgp3tcLInKfE8=&amp;h=336&amp;w=324&amp;sz=17&amp;hl=en&amp;start=7&amp;um=1&amp;itbs=1&amp;tbnid=YQ3EAA64cQfbsM:&amp;tbnh=119&amp;tbnw=115&amp;prev=/images%3Fq%3Dlemon%2Bverbena%26um%3D1%26hl%3Den%26rls%3Dcom.microsoft:en-us:IE-SearchBox%26rlz%3D1I7GGLJ_en%26tbs%3Disch:1" TargetMode="External"/><Relationship Id="rId14" Type="http://schemas.openxmlformats.org/officeDocument/2006/relationships/image" Target="../media/image55.jpeg"/><Relationship Id="rId15" Type="http://schemas.openxmlformats.org/officeDocument/2006/relationships/image" Target="../media/image56.jpeg"/><Relationship Id="rId1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om.au/imgres?imgurl=http://www.thriftyfun.com/images/gg/Tarragon273x300.jpg&amp;imgrefurl=http://www.thriftyfun.com/tf57233994.tip.html&amp;usg=__P1OK7xFfSHxZws3-BvjA58gtzaA=&amp;h=300&amp;w=273&amp;sz=12&amp;hl=en&amp;start=10&amp;um=1&amp;itbs=1&amp;tbnid=B6gS7Tzn4qPKAM:&amp;tbnh=116&amp;tbnw=106&amp;prev=/images%3Fq%3Dtarragon%26um%3D1%26hl%3Den%26rls%3Dcom.microsoft:en-us:IE-SearchBox%26rlz%3D1I7GGLJ_en%26tbs%3Disch:1" TargetMode="External"/><Relationship Id="rId2" Type="http://schemas.openxmlformats.org/officeDocument/2006/relationships/image" Target="../media/image57.jpeg"/><Relationship Id="rId3" Type="http://schemas.openxmlformats.org/officeDocument/2006/relationships/hyperlink" Target="http://indianrecipevideo.com/images/dill.jpg" TargetMode="External"/><Relationship Id="rId4" Type="http://schemas.openxmlformats.org/officeDocument/2006/relationships/image" Target="../media/image58.jpeg"/><Relationship Id="rId5" Type="http://schemas.openxmlformats.org/officeDocument/2006/relationships/hyperlink" Target="http://www.google.com.au/imgres?imgurl=http://3.bp.blogspot.com/_ceZKjb50a0c/SLYZyJba80I/AAAAAAAAA7w/3YpRxsaaHE0/s400/capsicum.jpg&amp;imgrefurl=http://diriinilengkapkembali.blogspot.com/2009/09/ceritera-resipi.html&amp;usg=__PDroiNEHn_IVldsC04m3Cl7n7Ig=&amp;h=300&amp;w=400&amp;sz=28&amp;hl=en&amp;start=2&amp;um=1&amp;itbs=1&amp;tbnid=Ut4GiVXtZahlEM:&amp;tbnh=93&amp;tbnw=124&amp;prev=/images%3Fq%3Dcapsicum%26um%3D1%26hl%3Den%26rls%3Dcom.microsoft:en-us:IE-SearchBox%26rlz%3D1I7GGLJ_en%26tbs%3Disch:1" TargetMode="External"/><Relationship Id="rId6" Type="http://schemas.openxmlformats.org/officeDocument/2006/relationships/image" Target="../media/image59.jpeg"/><Relationship Id="rId7" Type="http://schemas.openxmlformats.org/officeDocument/2006/relationships/hyperlink" Target="http://www.garden.org/images/App/articles/2125a.jpg" TargetMode="External"/><Relationship Id="rId8" Type="http://schemas.openxmlformats.org/officeDocument/2006/relationships/image" Target="../media/image60.jpeg"/><Relationship Id="rId9" Type="http://schemas.openxmlformats.org/officeDocument/2006/relationships/hyperlink" Target="http://www.google.com.au/imgres?imgurl=http://blueheronlocal.files.wordpress.com/2008/07/zucchini-2.jpg&amp;imgrefurl=http://blueheronlocal.wordpress.com/2008/07/17/the-zucchini-wars/&amp;usg=__CgvEOavR9zx1bUD7cLQ5Qbc7XuM=&amp;h=250&amp;w=234&amp;sz=52&amp;hl=en&amp;start=7&amp;um=1&amp;itbs=1&amp;tbnid=TvaO1PtCvbmH2M:&amp;tbnh=111&amp;tbnw=104&amp;prev=/images%3Fq%3Dzucchini%26um%3D1%26hl%3Den%26rls%3Dcom.microsoft:en-us:IE-SearchBox%26rlz%3D1I7GGLJ_en%26tbs%3Disch:1" TargetMode="External"/><Relationship Id="rId10" Type="http://schemas.openxmlformats.org/officeDocument/2006/relationships/image" Target="../media/image61.jpeg"/><Relationship Id="rId11" Type="http://schemas.openxmlformats.org/officeDocument/2006/relationships/hyperlink" Target="http://www.google.com.au/imgres?imgurl=http://z.about.com/d/gardening/1/0/N/Q/V_Pea_SnowSweet.jpg&amp;imgrefurl=http://gardening.about.com/od/vegetable1/ig/2008-New-Vegetable-Varieties/Pea--Snow-Sweet-.htm&amp;usg=__ezA3b9TJeiMNasCvrhwQ9XSupxw=&amp;h=500&amp;w=378&amp;sz=132&amp;hl=en&amp;start=8&amp;um=1&amp;itbs=1&amp;tbnid=VC032F0U-YbGZM:&amp;tbnh=130&amp;tbnw=98&amp;prev=/images%3Fq%3Dsnow%2Bpeas%26um%3D1%26hl%3Den%26rls%3Dcom.microsoft:en-us:IE-SearchBox%26rlz%3D1I7GGLJ_en%26tbs%3Disch:1" TargetMode="External"/><Relationship Id="rId12" Type="http://schemas.openxmlformats.org/officeDocument/2006/relationships/image" Target="../media/image62.jpeg"/><Relationship Id="rId13" Type="http://schemas.openxmlformats.org/officeDocument/2006/relationships/hyperlink" Target="http://www.google.com.au/imgres?imgurl=http://upload.wikimedia.org/wikipedia/commons/9/93/ARS_red_onion.jpg&amp;imgrefurl=http://commons.wikimedia.org/wiki/File:ARS_red_onion.jpg&amp;usg=__OZB1NXhhWjOPmTklvKXBfpUUKN4=&amp;h=2700&amp;w=1836&amp;sz=1405&amp;hl=en&amp;start=6&amp;um=1&amp;itbs=1&amp;tbnid=BWXuc2f3p9oqKM:&amp;tbnh=150&amp;tbnw=102&amp;prev=/images%3Fq%3Dred%2Bonions%26um%3D1%26hl%3Den%26rls%3Dcom.microsoft:en-us:IE-SearchBox%26rlz%3D1I7GGLJ_en%26tbs%3Disch:1" TargetMode="External"/><Relationship Id="rId14" Type="http://schemas.openxmlformats.org/officeDocument/2006/relationships/image" Target="../media/image63.jpeg"/><Relationship Id="rId15" Type="http://schemas.openxmlformats.org/officeDocument/2006/relationships/hyperlink" Target="http://www.google.com.au/imgres?imgurl=http://www.allotmentgirls.co.uk/files/images/onions2.jpg&amp;imgrefurl=http://holes-louissachar.wikispaces.com/Motifs&amp;usg=__Pc988qzIlDEROhcaQ3--TRC6PVU=&amp;h=336&amp;w=448&amp;sz=126&amp;hl=en&amp;start=13&amp;um=1&amp;itbs=1&amp;tbnid=xPPlwFTYrSbZzM:&amp;tbnh=95&amp;tbnw=127&amp;prev=/images%3Fq%3Donions%26um%3D1%26hl%3Den%26rls%3Dcom.microsoft:en-us:IE-SearchBox%26rlz%3D1I7GGLJ_en%26tbs%3Disch:1" TargetMode="External"/><Relationship Id="rId16" Type="http://schemas.openxmlformats.org/officeDocument/2006/relationships/image" Target="../media/image64.jpeg"/><Relationship Id="rId1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om.au/imgres?imgurl=http://www.langhamherbs.co.uk/compostimages/img00089.jpg&amp;imgrefurl=http://www.langhamherbs.co.uk/compost.aspx%3Fsid%3D89&amp;usg=__TvOoxI7_vf5ufi6v-t48pjAENUw=&amp;h=346&amp;w=347&amp;sz=129&amp;hl=en&amp;start=14&amp;um=1&amp;itbs=1&amp;tbnid=gS02bg-I_IxFRM:&amp;tbnh=120&amp;tbnw=120&amp;prev=/images%3Fq%3Dceleriac%26um%3D1%26hl%3Den%26sa%3DN%26rls%3Dcom.microsoft:en-us:IE-SearchBox%26rlz%3D1I7GGLJ_en%26tbs%3Disch:1" TargetMode="External"/><Relationship Id="rId2" Type="http://schemas.openxmlformats.org/officeDocument/2006/relationships/image" Target="../media/image65.jpeg"/><Relationship Id="rId3" Type="http://schemas.openxmlformats.org/officeDocument/2006/relationships/hyperlink" Target="http://www.google.com.au/imgres?imgurl=http://www.smamuhiyogya.org/projects/D2D09/group14/Image/DTD/mentimun/mentimun%25201.jpg&amp;imgrefurl=http://www.smamuhiyogya.org/projects/D2D09/group14/Copy%2520of%2520gallery.html&amp;usg=__d8TpCQkzHdjFLBIJ_mpkbkP9chE=&amp;h=474&amp;w=300&amp;sz=51&amp;hl=en&amp;start=8&amp;um=1&amp;itbs=1&amp;tbnid=siP1DfyNAHq62M:&amp;tbnh=129&amp;tbnw=82&amp;prev=/images%3Fq%3Dcucumber%26um%3D1%26hl%3Den%26rls%3Dcom.microsoft:en-us:IE-SearchBox%26rlz%3D1I7GGLJ_en%26tbs%3Disch:1" TargetMode="External"/><Relationship Id="rId4" Type="http://schemas.openxmlformats.org/officeDocument/2006/relationships/image" Target="../media/image66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46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6294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45720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trawber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743200" y="45720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ettu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800600" y="45720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e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0" y="45720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arl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327672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asi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19520" y="327672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arsl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876920" y="327672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i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934320" y="327672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oma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21932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76600" y="1314360"/>
            <a:ext cx="1361880" cy="1276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0" y="1295280"/>
            <a:ext cx="1676520" cy="1371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05720" y="129528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33520" y="4114800"/>
            <a:ext cx="1447560" cy="1184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parsley"/>
          <p:cNvPicPr/>
          <p:nvPr/>
        </p:nvPicPr>
        <p:blipFill>
          <a:blip r:embed="rId11"/>
          <a:stretch/>
        </p:blipFill>
        <p:spPr>
          <a:xfrm>
            <a:off x="2666880" y="4038480"/>
            <a:ext cx="1305000" cy="1509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648320" y="4038480"/>
            <a:ext cx="1447560" cy="1524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781680" y="4100400"/>
            <a:ext cx="144792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3828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800600" y="339084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743200" y="327672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riand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327672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pina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45720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arro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743200" y="45720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ota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800600" y="45720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ea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0" y="45720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eetroo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86440" y="3352680"/>
            <a:ext cx="11908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adis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295280"/>
            <a:ext cx="1295640" cy="1314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66880" y="1295280"/>
            <a:ext cx="1143000" cy="1295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0600" y="14479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05720" y="1295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5800" y="4114800"/>
            <a:ext cx="1181160" cy="1523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666880" y="41911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724280" y="4191120"/>
            <a:ext cx="1305000" cy="1295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858000" y="4191120"/>
            <a:ext cx="11620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294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327672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umpk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90920" y="3276720"/>
            <a:ext cx="1600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emon bal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3962520"/>
            <a:ext cx="1523880" cy="15332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905360" y="327672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y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672240" y="3581280"/>
            <a:ext cx="1582920" cy="1905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6705720" y="3276720"/>
            <a:ext cx="1523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pring on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53352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auliflo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438280" y="49536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roccol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800600" y="15238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0" y="53352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ocke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0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81680" y="1447920"/>
            <a:ext cx="1276560" cy="1295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6629400" y="45720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utter bea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0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3520" y="13716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514600" y="1371600"/>
            <a:ext cx="1371600" cy="1295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09480" y="4267080"/>
            <a:ext cx="1305000" cy="1143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666880" y="4267080"/>
            <a:ext cx="1371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294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771640" y="3276720"/>
            <a:ext cx="1190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alandul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4419720"/>
            <a:ext cx="1362240" cy="904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762120" y="53352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asturtiu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2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2600" y="40384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0600" y="4038480"/>
            <a:ext cx="1238400" cy="1447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829040" y="3200400"/>
            <a:ext cx="1190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ak cho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2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010280" y="3886200"/>
            <a:ext cx="1067040" cy="1600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6858000" y="320040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s lettu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2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5800" y="1523880"/>
            <a:ext cx="1257480" cy="1086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638280" y="327672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rigol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31" name="" descr="See full size imag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14600" y="1523880"/>
            <a:ext cx="1447920" cy="1092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2695680" y="49536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road be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3"/>
          <a:stretch/>
        </p:blipFill>
        <p:spPr>
          <a:xfrm>
            <a:off x="4800600" y="1219320"/>
            <a:ext cx="1185840" cy="1569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572000" y="45720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ugar snap pe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35" name="" descr="See full size image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705720" y="11430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6629400" y="53352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osem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294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6294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514600" y="533520"/>
            <a:ext cx="14954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ugar loa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abb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0" y="380880"/>
            <a:ext cx="1190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avend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800600" y="3276720"/>
            <a:ext cx="1190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ok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45720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amomi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219320"/>
            <a:ext cx="1076400" cy="14284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90920" y="1676520"/>
            <a:ext cx="1361880" cy="10191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48320" y="1371600"/>
            <a:ext cx="1523880" cy="13809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4648320" y="457200"/>
            <a:ext cx="1495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enne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5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81680" y="1523880"/>
            <a:ext cx="1428840" cy="9334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705720" y="3886200"/>
            <a:ext cx="1523880" cy="16002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6934320" y="3276720"/>
            <a:ext cx="1190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r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56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800600" y="4114800"/>
            <a:ext cx="1362240" cy="13716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2743200" y="3276720"/>
            <a:ext cx="1190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ele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58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590920" y="3809880"/>
            <a:ext cx="1523880" cy="17528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685800" y="3276720"/>
            <a:ext cx="1190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ndar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60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85800" y="3962520"/>
            <a:ext cx="11811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572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6294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146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294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514600" y="533520"/>
            <a:ext cx="1495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umqua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0" y="380880"/>
            <a:ext cx="1190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i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8320" y="3276720"/>
            <a:ext cx="1523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urry pla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45720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ockmel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48320" y="457200"/>
            <a:ext cx="1495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em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934320" y="3276720"/>
            <a:ext cx="1190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urni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743200" y="3276720"/>
            <a:ext cx="1190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ran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3276720"/>
            <a:ext cx="1190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iv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3886200"/>
            <a:ext cx="1095480" cy="15238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129528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90920" y="1295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648320" y="1295280"/>
            <a:ext cx="1447560" cy="12956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705720" y="1295280"/>
            <a:ext cx="1523880" cy="1295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90920" y="3886200"/>
            <a:ext cx="1371600" cy="16002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724280" y="3962520"/>
            <a:ext cx="1305000" cy="1523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705720" y="3886200"/>
            <a:ext cx="14475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3828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294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294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514600" y="533520"/>
            <a:ext cx="1495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regan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705720" y="380880"/>
            <a:ext cx="15238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ocolate mi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648320" y="3276720"/>
            <a:ext cx="1523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emon verben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45720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eek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648320" y="457200"/>
            <a:ext cx="1495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aper dais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934320" y="3276720"/>
            <a:ext cx="1190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514600" y="3276720"/>
            <a:ext cx="1600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arlic chiv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3276720"/>
            <a:ext cx="1190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orre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2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29528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66880" y="1600200"/>
            <a:ext cx="1238400" cy="9334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24280" y="1371600"/>
            <a:ext cx="1447920" cy="12384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81680" y="1295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9480" y="3886200"/>
            <a:ext cx="1362240" cy="1447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90920" y="388620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724280" y="3962520"/>
            <a:ext cx="1371600" cy="15238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5"/>
          <a:stretch/>
        </p:blipFill>
        <p:spPr>
          <a:xfrm>
            <a:off x="6781680" y="3962520"/>
            <a:ext cx="142884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572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43828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294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146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6294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514600" y="533520"/>
            <a:ext cx="14954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i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705720" y="380880"/>
            <a:ext cx="15238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weet pota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48320" y="3276720"/>
            <a:ext cx="1523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ed on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85800" y="45720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rrag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8320" y="457200"/>
            <a:ext cx="1495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apsicu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934320" y="3276720"/>
            <a:ext cx="1190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n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514600" y="3276720"/>
            <a:ext cx="1600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now pe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85800" y="3276720"/>
            <a:ext cx="1190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zucchin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22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295280"/>
            <a:ext cx="1219320" cy="13338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90920" y="129528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24280" y="1371600"/>
            <a:ext cx="1371600" cy="12952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See full size ima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05720" y="121932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33520" y="3962520"/>
            <a:ext cx="1427040" cy="15238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90920" y="3809880"/>
            <a:ext cx="1447560" cy="175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648320" y="3886200"/>
            <a:ext cx="1447560" cy="16765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781680" y="3886200"/>
            <a:ext cx="1371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572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3828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6294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146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6294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14600" y="533520"/>
            <a:ext cx="14954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eleria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85800" y="45720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ucumb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2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1066680"/>
            <a:ext cx="1295280" cy="16765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1371600"/>
            <a:ext cx="137160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01:01:51Z</dcterms:created>
  <dc:creator>Brook Polidano</dc:creator>
  <dc:description/>
  <dc:language>en-US</dc:language>
  <cp:lastModifiedBy>Brook Polidano</cp:lastModifiedBy>
  <dcterms:modified xsi:type="dcterms:W3CDTF">2010-06-05T00:48:14Z</dcterms:modified>
  <cp:revision>7</cp:revision>
  <dc:subject/>
  <dc:title>Slide 1</dc:title>
</cp:coreProperties>
</file>